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8B2-0739-4047-9A72-B8524CB1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ED5B-2DFA-4E45-A210-1590C92D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3B6-6FC9-40AD-BB47-5B9B147C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CD8-6E31-4980-AD3D-5C004C5E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7CC6-2673-4355-8290-82E5BEF5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386B-F38D-476B-9EE3-C00E5BD5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3C42-85F2-40DB-81E6-06523E3F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9FE0-F7CD-4E81-8BF0-6618C76D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BFF6-2ABE-461F-9D73-5A49E1C4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CABC-B0F7-4E8F-BEEB-E5734ECD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5430-D1DA-49CF-BF62-36D004E2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A9C-43F0-4B66-9ABE-9625D792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63D5-7FB1-4DBB-B9C1-74130CA6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4AEC-99BC-4695-AF2B-264E97C8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FFA8-C65E-4FDA-A508-110FCD69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0A5D-7BEF-4E6B-8226-93603B6D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584A-FC23-4875-BD4E-6E7DA994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A0A4-8045-4BD8-ACAD-99049D05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598C-F5BB-4863-BEFD-7AC62CD7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8D82C-E686-4D85-A967-702C65F8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60F0-6DDA-4643-A11C-2A103AF4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7123-59B7-4ADD-9216-7D2B54EC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A48-AEAC-4755-8C39-1B71D6EC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1489-E345-47B9-A6C5-595B5380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D189E-DF53-4EA1-85AA-461CE8A4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0EC7-8C94-4D71-9379-E54CC715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1B584-4E35-4152-8889-2DC49FDB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6B2C9-0296-4DF5-BDDF-CAD5DAC9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03F76-6188-406C-849C-EEBECDC8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A8D19-86DB-41DC-AC8C-90AF9D76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B2077-C679-4209-9AF8-745654B8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6579E-0554-46CD-B141-9DCA0EFF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3C19-1EB6-4750-B81A-8A0C7A58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21F-452A-48B5-B6B8-E2F4E872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3B29F-449C-42C7-8725-EDC68F1E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F3C79-5670-46DE-AA41-28387C5D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20810-DD97-4EBC-A197-97EAB396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364C-327A-4047-B404-450460C3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0AFA-53A1-422D-ABD7-F59BFD1C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110BB-092A-43A5-954C-12B77751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CB3D6-842B-41D7-8B1E-BD7A04C1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F49B-7B9D-4F21-BE53-B1D00EA5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0CF75-18B7-4D3E-AE54-1BD439A7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FDFF0-47DB-4F7F-931F-FB9DDE62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714D-2E87-45E6-AD34-BAD65D4B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5F30D-1B27-4CF9-AFBC-EBFEC829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E54E4-8566-4179-B908-09F47996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7649C-69F1-42C4-AE7D-D93C2182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08B1A-DC4D-42C0-BC4B-D1E6D44C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B0601-B0E0-432F-8644-3B70C2E0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DE175-177C-4F91-8B48-8F1B1256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63200-D3BB-42FD-A76A-7F405E54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04568-FBDA-42AC-8BF7-7A11EC09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70CFB-ABB7-4D0C-8C42-C5223D4E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72660-4A51-4C7D-AB32-6BC88D12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8B4-7FAC-4714-B93B-4BC01F97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54115-A423-4071-A30B-B3FEBBF4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9A3-096A-4F16-8DC7-CAD20712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B92-F790-4D21-93C5-D321370B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FEB3-3B7C-4EC2-B36F-EDF1D7C7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C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CA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Aft>
                <a:spcPts val="1134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CA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CA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C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6887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A7F95E-CA7B-4D66-8654-C96E2869D63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000" y="540000"/>
            <a:ext cx="8640000" cy="102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CA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CA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000" y="1980000"/>
            <a:ext cx="84600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CA" sz="3200" spc="-1" strike="noStrike">
              <a:solidFill>
                <a:srgbClr val="006b6b"/>
              </a:solidFill>
              <a:latin typeface="Arial"/>
            </a:endParaRPr>
          </a:p>
          <a:p>
            <a:pPr lvl="1" marL="864000" indent="-288000"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CA" sz="28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CA" sz="2800" spc="-1" strike="noStrike">
              <a:solidFill>
                <a:srgbClr val="006b6b"/>
              </a:solidFill>
              <a:latin typeface="Arial"/>
            </a:endParaRPr>
          </a:p>
          <a:p>
            <a:pPr lvl="2" marL="1296000" indent="-21600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4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CA" sz="2400" spc="-1" strike="noStrike">
              <a:solidFill>
                <a:srgbClr val="006b6b"/>
              </a:solidFill>
              <a:latin typeface="Arial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CA" sz="20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CA" sz="2000" spc="-1" strike="noStrike">
              <a:solidFill>
                <a:srgbClr val="006b6b"/>
              </a:solidFill>
              <a:latin typeface="Arial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CA" sz="2000" spc="-1" strike="noStrike">
              <a:solidFill>
                <a:srgbClr val="006b6b"/>
              </a:solidFill>
              <a:latin typeface="Arial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CA" sz="2000" spc="-1" strike="noStrike">
              <a:solidFill>
                <a:srgbClr val="006b6b"/>
              </a:solidFill>
              <a:latin typeface="Arial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CA" sz="20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5720" y="630000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0000" y="6318720"/>
            <a:ext cx="322236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1720" y="631872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863E46-B7BE-47F4-8BE7-4EE7C0387D2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CA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373320"/>
            <a:ext cx="9360000" cy="95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40000" y="2520000"/>
            <a:ext cx="9035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4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288000"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1600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4000" y="7031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360" y="7031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7031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38D6EB-AEE3-48E9-9C99-0DCAFFADC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8360" y="717840"/>
            <a:ext cx="835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0000" y="2160000"/>
            <a:ext cx="828000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4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288000"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1600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50400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360" y="6887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2736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67531A-CD2C-4B05-A3B7-1545C4EC9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64000" indent="-288000">
              <a:spcAft>
                <a:spcPts val="1134"/>
              </a:spcAft>
              <a:buClr>
                <a:srgbClr val="333333"/>
              </a:buClr>
              <a:buSzPct val="75000"/>
              <a:buFont typeface="Symbol" charset="2"/>
              <a:buChar char=""/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CA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96000" indent="-216000">
              <a:spcAft>
                <a:spcPts val="850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CA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28000" indent="-216000">
              <a:spcAft>
                <a:spcPts val="567"/>
              </a:spcAft>
              <a:buClr>
                <a:srgbClr val="333333"/>
              </a:buClr>
              <a:buSzPct val="75000"/>
              <a:buFont typeface="Symbol" charset="2"/>
              <a:buChar char=""/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CA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0000" indent="-216000">
              <a:spcAft>
                <a:spcPts val="283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CA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592000" indent="-216000">
              <a:spcAft>
                <a:spcPts val="283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CA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3024000" indent="-216000">
              <a:spcAft>
                <a:spcPts val="283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CA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7600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CA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7360" y="6887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CA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36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FF5479-0F01-4FD2-BC4F-1D6390E9445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CA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ARENTING STYLE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/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CP30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/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Ms. Dray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Permissive Parenting Style</a:t>
            </a:r>
            <a:br>
              <a:rPr sz="4400"/>
            </a:b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(Jellyfish)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151960" y="1769040"/>
            <a:ext cx="4426560" cy="50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Few limits/rules imposed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arents view themselves as their child's friend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hildren may control the family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hildren learn wrongdoing from the results of their action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04000" y="2050200"/>
            <a:ext cx="4426560" cy="442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Potential Impact on Child?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4000" y="346320"/>
            <a:ext cx="9071640" cy="1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Impacts on Child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5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mpulsive behaviour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rresponsible behaviour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ess likely to consider the effect of their actions on other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ess oriented towards achievement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702400" y="1768680"/>
            <a:ext cx="332532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4000" y="313560"/>
            <a:ext cx="90716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Authoritative Parenting Style</a:t>
            </a:r>
            <a:br>
              <a:rPr sz="4400"/>
            </a:b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(Backbone)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560" cy="523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Warmth, support and unconditional love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Guidelines are flexible and adaptable to different situation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hildren make decisions within the limits set by parent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Rules are explained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0">
              <a:spcAft>
                <a:spcPts val="1417"/>
              </a:spcAft>
              <a:buNone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151960" y="1860120"/>
            <a:ext cx="4426560" cy="48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otential Impacts on Child?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4000" y="346320"/>
            <a:ext cx="9071640" cy="1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Impacts on Child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4000" y="2795040"/>
            <a:ext cx="4426560" cy="29368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151960" y="1769040"/>
            <a:ext cx="44265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Better adjusted socially and emotionally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Stronger self-concept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igher self-control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chievement oriented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Able to make better decisions during the teen year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What is a Parenting Style?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4000" y="346320"/>
            <a:ext cx="9071640" cy="1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Parenting Styles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Involves to the expectations of child (e.g. behaviour when visiting Grandma)</a:t>
            </a:r>
            <a:endParaRPr b="0" lang="en-CA" sz="36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Parent – child interactions</a:t>
            </a:r>
            <a:endParaRPr b="0" lang="en-CA" sz="36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Rules and how they are enforced</a:t>
            </a:r>
            <a:endParaRPr b="0" lang="en-CA" sz="36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600" spc="-1" strike="noStrike">
                <a:solidFill>
                  <a:srgbClr val="ffffff"/>
                </a:solidFill>
                <a:latin typeface="Times New Roman"/>
              </a:rPr>
              <a:t>How parent responds to child (e.g. the affection shown between parent and child)</a:t>
            </a:r>
            <a:endParaRPr b="0" lang="en-CA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60000" y="4098240"/>
            <a:ext cx="5220000" cy="166176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645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What parenting style do you think you will have? Take the quiz!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/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What factors might influence parenting styles?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What Influences Parenting Styles?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 way parents were raised 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The family structure (single-parent, dual-income, etc)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Ethnic background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ndividual parenting skills and knowledge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ersonality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151960" y="2761200"/>
            <a:ext cx="4426560" cy="30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4000" y="313560"/>
            <a:ext cx="90716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Authoritarian Parenting Style</a:t>
            </a:r>
            <a:br>
              <a:rPr sz="4400"/>
            </a:b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(Brick Wall)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60000" y="1693800"/>
            <a:ext cx="4426560" cy="56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Strict discipline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0">
              <a:spcAft>
                <a:spcPts val="1417"/>
              </a:spcAft>
              <a:buNone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Parents value obedience, structure and respect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Children listen without understanding reasons for rule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Behaviour managed through reward and punishments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0">
              <a:spcAft>
                <a:spcPts val="1417"/>
              </a:spcAft>
              <a:buNone/>
            </a:pP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51960" y="2062440"/>
            <a:ext cx="442656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4000" y="346320"/>
            <a:ext cx="9071640" cy="63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What might the impacts be on the child?</a:t>
            </a:r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/>
            <a:endParaRPr b="0" lang="en-CA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3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4000" y="346320"/>
            <a:ext cx="9071640" cy="11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lang="en-CA" sz="4400" spc="-1" strike="noStrike">
                <a:solidFill>
                  <a:srgbClr val="ffffff"/>
                </a:solidFill>
                <a:latin typeface="Times New Roman"/>
              </a:rPr>
              <a:t>Potential Impact on Child</a:t>
            </a:r>
            <a:endParaRPr b="1" lang="en-CA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5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Lower self-esteem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Higher levels of aggression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I love you when you are good” message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  <a:p>
            <a:pPr marL="432000" indent="-324000">
              <a:spcAft>
                <a:spcPts val="1417"/>
              </a:spcAft>
              <a:buClr>
                <a:srgbClr val="333333"/>
              </a:buClr>
              <a:buSzPct val="45000"/>
              <a:buFont typeface="Wingdings" charset="2"/>
              <a:buChar char=""/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</a:rPr>
              <a:t>More susceptible to physical punishment</a:t>
            </a:r>
            <a:endParaRPr b="0" lang="en-C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151960" y="1917360"/>
            <a:ext cx="4426560" cy="46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0T16:01:53Z</dcterms:created>
  <dc:creator>dana dray</dc:creator>
  <dc:description/>
  <dc:language>en-US</dc:language>
  <cp:lastModifiedBy/>
  <dcterms:modified xsi:type="dcterms:W3CDTF">2010-11-23T13:10:39Z</dcterms:modified>
  <cp:revision>16</cp:revision>
  <dc:subject/>
  <dc:title/>
</cp:coreProperties>
</file>